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8B3-FF1B-464B-8D99-6F6316B8B4A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8993-CD48-4051-A895-C29613EDF23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59B-9D10-4D9E-99B8-B62F0D0E757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0DA3-9E7F-44D3-9D0B-D1943E5189A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7909-B8D8-4542-8DB1-79E0C67F1B2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A1E4-BFB9-4F29-93A3-4E1DA137D14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4AB9-BA45-4C61-92AA-B9682F687FE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410E-066A-46BF-B0D3-39C0A0CDC48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E13-EF1E-4B72-A745-04CA76AC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DAD-51FD-4DC0-BB78-8C472AA1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C4F-E96F-4743-8025-C1B6B4B3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877-0474-486C-B3FF-26AB2C6B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8DF9-C584-4857-9877-150B7EBC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4A7F-44FA-4930-9BAC-B140882C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A9C5-B72A-4AF5-A989-AC52E88C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C07-E372-424E-8B3C-0CD3A53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4C22-B26A-4136-AFC0-54772D27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39E4-978C-4B8B-8C3B-2F05912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FC31-693A-4075-A88F-4BE5605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A98-E703-4E70-B543-9144FA30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9784-0621-489F-892D-8D67EE9D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BFBF-45A0-4F9D-B843-40D903C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E708-E0AB-414C-B264-C26936D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464A-8507-49C8-8C79-B035CC6C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D0B-465C-41CC-9BFE-035B42E4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824-732A-4F48-9C45-6C559E43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958-AEC0-4932-8C4B-6E527021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E74-B333-4B9E-8D27-07F3A3C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6A7-872E-4590-BFB7-64DC97B0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C6B-D573-4C42-BDE8-98C5AEE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222-9BCA-47E8-B8AB-D834F092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AF5-934A-481B-A349-4007A3B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8DFF-229F-40BB-BF84-9A92514654C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1B79-8B22-4C4E-8039-72CAA6F46456}" type="slidenum">
              <a:rPr b="0" lang="zh-TW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uK5ija2gVbY&amp;feature=player_embedded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628640"/>
            <a:ext cx="5328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eds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: EDUC 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: Po-Yien 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or: Dr. Kevin Pya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Newton-Virus-Object"/>
          <p:cNvPicPr/>
          <p:nvPr/>
        </p:nvPicPr>
        <p:blipFill>
          <a:blip r:embed="rId1"/>
          <a:srcRect l="19299" t="10657" r="20236" b="14414"/>
          <a:stretch/>
        </p:blipFill>
        <p:spPr>
          <a:xfrm>
            <a:off x="6588000" y="2492280"/>
            <a:ext cx="2148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-Finding-Problem Solving Assess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7" descr="computer%20virus"/>
          <p:cNvPicPr/>
          <p:nvPr/>
        </p:nvPicPr>
        <p:blipFill>
          <a:blip r:embed="rId1"/>
          <a:stretch/>
        </p:blipFill>
        <p:spPr>
          <a:xfrm>
            <a:off x="6659640" y="4005360"/>
            <a:ext cx="2038320" cy="2681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1258920" y="270828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116000" y="206064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332000" y="2276640"/>
            <a:ext cx="546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odel will be used for Taiwanese college students to avoid computer viruses during their college and professional car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istent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header_virus"/>
          <p:cNvPicPr/>
          <p:nvPr/>
        </p:nvPicPr>
        <p:blipFill>
          <a:blip r:embed="rId1"/>
          <a:srcRect l="7057" t="5575" r="0" b="30604"/>
          <a:stretch/>
        </p:blipFill>
        <p:spPr>
          <a:xfrm>
            <a:off x="4859280" y="5013360"/>
            <a:ext cx="4284720" cy="165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1116000" y="206064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udents may have a missing or non-information of computer viru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新細明體"/>
              </a:rPr>
              <a:t>E.g. Students may think antivirus is prefect of clearing computer viru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新細明體"/>
              </a:rPr>
              <a:t>Students may not have any knowledge of computer viru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computer viruses infect other computers, people should learn how to protect our computers to take a response for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ist2_4790932-attack-of-virus-on-the-computer"/>
          <p:cNvPicPr/>
          <p:nvPr/>
        </p:nvPicPr>
        <p:blipFill>
          <a:blip r:embed="rId1"/>
          <a:stretch/>
        </p:blipFill>
        <p:spPr>
          <a:xfrm>
            <a:off x="6694560" y="4221000"/>
            <a:ext cx="2224080" cy="2435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xample of computer vir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 virus emails frequ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gerous or fake web side around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Instructional Interven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4" descr="funny_computer_virus_in_jail"/>
          <p:cNvPicPr/>
          <p:nvPr/>
        </p:nvPicPr>
        <p:blipFill>
          <a:blip r:embed="rId1"/>
          <a:stretch/>
        </p:blipFill>
        <p:spPr>
          <a:xfrm>
            <a:off x="6516720" y="423072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398600" y="2233440"/>
            <a:ext cx="546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technologic information is necessary for lear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新細明體"/>
              </a:rPr>
              <a:t>E.g. IP address, windows OS, internet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oos in other count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iwanese teaching style is different than in Ameri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ctivities, discussion, and interaction are not common teaching style in Taiw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est evaluation is difficult in        Taiwanes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iwanese uses test-depending instr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students by number is clear and                common in Taiw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6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computer virus2"/>
          <p:cNvPicPr/>
          <p:nvPr/>
        </p:nvPicPr>
        <p:blipFill>
          <a:blip r:embed="rId1"/>
          <a:stretch/>
        </p:blipFill>
        <p:spPr>
          <a:xfrm>
            <a:off x="6815160" y="5000760"/>
            <a:ext cx="2155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no-fee"/>
          <p:cNvPicPr/>
          <p:nvPr/>
        </p:nvPicPr>
        <p:blipFill>
          <a:blip r:embed="rId1"/>
          <a:stretch/>
        </p:blipFill>
        <p:spPr>
          <a:xfrm>
            <a:off x="6477120" y="4643280"/>
            <a:ext cx="2457360" cy="1987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182600" y="2017800"/>
            <a:ext cx="546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398600" y="2233440"/>
            <a:ext cx="546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ould teachers solve the cultural teaching conflic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tudents are not familiar with technologic staffs, how to encourage students in clas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3:54:47Z</dcterms:created>
  <dc:creator>Chen Po-Yien</dc:creator>
  <dc:description/>
  <dc:language>en-US</dc:language>
  <cp:lastModifiedBy>GACL User</cp:lastModifiedBy>
  <dcterms:modified xsi:type="dcterms:W3CDTF">2010-04-30T01:20:25Z</dcterms:modified>
  <cp:revision>147</cp:revision>
  <dc:subject/>
  <dc:title>PowerPoint Presentation</dc:title>
</cp:coreProperties>
</file>